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7D7-C8F4-4F51-A2A5-AD4C93F7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33D-0FCF-413A-96F3-693B2CE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926-B34D-41A2-A78A-3F0F94F0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07B-11D2-45BB-82E9-D3ACDB40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8A4-E893-495B-94BF-85C253C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A99-5E52-413B-96C7-3B5901D6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654-671C-4FEA-9605-2914CD8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CDF-311A-4934-8DEB-50F7519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608-45D2-4DA1-9500-EAE684D9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4E6-71CF-402D-8FA7-C42BE61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F02-A65A-4632-96BA-8A04062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2AB-30CB-4287-8AC4-BFCFB6B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536-33C1-43C4-AA83-E65508CE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Aldehyde und Keton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 Referat von Bibi und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chiede Ketone/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Aldehyde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zeichnung Aldehyde wurde von Justus von Liebig im Jahre 1835 eingefüh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chemische Verbindungen, die als funktionelle Gruppe eine endständige Carbonylgruppe (CHO)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t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chemische 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Gruppe: c=o--&gt;Carbonylgrup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entalten eine nicht endständige Carbonylgruppe (Ketogrup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mit 2 weiteren Kohlenstoffatomen verbunden=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terschiede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/ 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werden hergestellt, indem primäre Alkohole unter Einwirkung eines Oxidationsmittels oxidiert werd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Oxidations- und Dehydrierungsprodukte und können aus sekundären Alkoholen hergestell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Aldehyd ist Methanal ( Formaldehyd), dieses wird als Desunfektion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Keton ist Aceton, dieses wird als Lösung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Aldehyden wird mit – al gekennzeichnet, so wird aus Meth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eth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Ketonen wird mit – on gekennzeichnet, so wird aus Prop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rop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bilden homologe Reih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lassen sich von den Alkanen ableite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k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Carbonyl- bzw. Aldehyd-Gruppe ist eine Osmophore Gruppe (-geruchstragende Gruppe) die für das Geruchsverhalten verantwortlich 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, z.B. Acetaldehyd sind flüchtig und haben einen unangenehm stechenden, schleimhautreizenden Geruch, viele Aldehyde haben jedoch einen angenehm obstigen oder blumenartigen Ger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edepunkte der Aldehyde steigen mit den Molmassen und liegen niedriger als die der zugehörigen Alko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 sind wasserlöslich , die höheren jedoch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kett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lose, brennbare Flüssigkeiten mit bestimmtem Ger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t wasserlöslich aufgrund der Polarität der Carbonyl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tt- und benzinlös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lecht oxidi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en nicht reduzie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ing Reaktion fällt negativ aus (Versu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zeigen aufgrund der vorhandenen Carbonylgruppe eine große Vielfalt chemischer Reaktionen ----&gt; Reaktionsfähigkeit schwächer als Aldehy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ehling- Probe wird zum Nachweis von Aldehyden benu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ch die Tollensprobe kann zum Nachweis von Aldehyden verwend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3:09:51Z</dcterms:created>
  <dc:creator>Sebastian</dc:creator>
  <dc:description/>
  <dc:language>en-US</dc:language>
  <cp:lastModifiedBy>Familie Petersen</cp:lastModifiedBy>
  <dcterms:modified xsi:type="dcterms:W3CDTF">2006-12-06T19:57:32Z</dcterms:modified>
  <cp:revision>8</cp:revision>
  <dc:subject/>
  <dc:title>Aldehyde und Ketone </dc:title>
</cp:coreProperties>
</file>